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063-1F14-40F9-B76C-3B0EFF41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BFF-A645-4E24-ADCD-7568E3DC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487-7F16-4E22-A87E-C7AD6794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BFB-8C40-4A35-98F7-C9E4A1D6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113-7B75-4C4E-AB5E-D68820F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0A2-5900-4750-BCAA-36B5FF7A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8C5-8B5D-4E0A-BD96-6E6E5ACF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4EA-7281-4397-A71E-DAAAA0D1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42A-C009-4892-98FF-0AC96DCE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EC2-6A31-407B-8F64-0F8B0E0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044-7B50-424C-8AD7-3611D09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3EE-2453-4D1A-9F63-904E0CB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0BB-6215-458D-8302-81A0C70B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coachmartyscamp.com/stickma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A Day in the Life of a St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81480"/>
            <a:ext cx="5029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ivot Ma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rt &amp; Technology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100320"/>
            <a:ext cx="190512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228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9360" y="533520"/>
            <a:ext cx="9162720" cy="6024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usement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1952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77400" cy="617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304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8915400" cy="573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360" y="685800"/>
            <a:ext cx="9125280" cy="569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owbo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6688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pter 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ning J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2320" y="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C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38280" y="990720"/>
            <a:ext cx="7867440" cy="511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ro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23880" y="228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760" y="838080"/>
            <a:ext cx="9096480" cy="601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from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58320" cy="601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092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124080"/>
            <a:ext cx="1904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9160" y="685800"/>
            <a:ext cx="890568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bing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ding 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320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a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9360" y="685800"/>
            <a:ext cx="916272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6:14:09Z</dcterms:created>
  <dc:creator>Patrick J. Mooney</dc:creator>
  <dc:description/>
  <dc:language>en-US</dc:language>
  <cp:lastModifiedBy>Patrick J. Mooney</cp:lastModifiedBy>
  <dcterms:modified xsi:type="dcterms:W3CDTF">2011-09-26T18:17:22Z</dcterms:modified>
  <cp:revision>13</cp:revision>
  <dc:subject/>
  <dc:title>Slide 1</dc:title>
</cp:coreProperties>
</file>